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8E25-FF3A-4B17-A6E1-81DEE9DF1F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AACC-56B0-4B71-9292-E78E261BB9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E94F-F38F-48C7-9C85-14CBDEE82C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49A-9736-4308-A68D-D7DCD554F9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A5D6-C861-4566-B268-D99E2B3291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ABC9-C98B-4D1F-BCE9-34237EAFE9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04A8-3CFD-4F6D-BF2A-78E72ABE74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7C1B-F1C1-4341-9080-E186E9E13B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8897-5C74-41D8-85D7-8426A753C1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3D6E-4831-4097-A749-FFA2FF4131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E634-6FCE-4859-B8A8-65A7F7C6F7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6024-7CB9-44C0-A1BC-024348BC26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9DE5-C6D2-4C35-9A33-249BBA93C8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FA35-7067-463D-A991-BC7135BDD51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00A3-6B72-4990-882A-28D2B3442D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A1C1-1C0E-44B8-8ECF-57E0CF378C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C6B4-CBE5-4FB8-AB85-D40B969AD7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997A-09F6-480A-BD0A-5F45199EAF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2719-A230-40CA-B484-628FEF6A9C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2691-9AE7-49BA-9A5C-8FD2350C74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7E7E-2804-4D61-8E0B-14438B5F66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BDA7-E587-4989-A3C0-7E67D1238E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39D0-10FC-46AE-A1FA-F20D23E838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D0FB-D26E-4845-A2F3-56ADA09C38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C7F9-E2E2-4827-8D5F-5D7CF210BC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1156-2089-4E06-831C-BDE26F8C96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E2D5-CE32-4338-B659-5F49CDE6F2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8B7A-BFFA-46A8-AD29-16A110F3F1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E0B78-6901-47FD-A50E-CEE40F180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EB0A-DB52-4705-BBE0-CEAEC806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8509D-7FDC-4C2E-96E7-6D82EB58D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D1C9C-AAA4-4711-9E86-88323F83F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1F56-7353-484B-B4AD-A7228D23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84F9-EEFE-4AA0-A846-BA36C40A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08AED-A6AD-4F70-834D-0E02E1FD6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670B0-BFD2-4FFB-904F-C3F16C4EA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AE307-9164-4D48-A5BA-A081CA3D9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2B28-484B-4AC2-8E41-3426E3014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87BD-2ECB-481E-AAE1-86D75ED81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58F2-2E32-444A-8E0D-27FADD2C5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C7E8-30EA-4B0F-A582-C689C344053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760" y="500040"/>
            <a:ext cx="8229600" cy="5786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In the Permaculture Design Manual (Tagari, 1988), Bill Mollison say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ahoma"/>
                <a:ea typeface="Tahoma"/>
              </a:rPr>
              <a:t>“</a:t>
            </a:r>
            <a:r>
              <a:rPr b="0" lang="en-US" sz="2000" spc="-1" strike="noStrike">
                <a:solidFill>
                  <a:srgbClr val="000000"/>
                </a:solidFill>
                <a:latin typeface="Tahoma"/>
                <a:ea typeface="Tahoma"/>
              </a:rPr>
              <a:t>Zone and sector analysis is a primary energy-conserving placement pattern for the whole site.  When we come to actual site design, we must pay close attention to locating components relative to the two energy sources of the si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First, energy available </a:t>
            </a:r>
            <a:r>
              <a:rPr b="0" i="1" lang="en-US" sz="2000" spc="-1" strike="noStrike">
                <a:solidFill>
                  <a:srgbClr val="000000"/>
                </a:solidFill>
                <a:latin typeface="Tahoma"/>
                <a:ea typeface="Tahoma"/>
              </a:rPr>
              <a:t>on site</a:t>
            </a:r>
            <a:r>
              <a:rPr b="0" lang="en-US" sz="2000" spc="-1" strike="noStrike">
                <a:solidFill>
                  <a:srgbClr val="000000"/>
                </a:solidFill>
                <a:latin typeface="Tahoma"/>
                <a:ea typeface="Tahoma"/>
              </a:rPr>
              <a:t>: the people, machines, wastes and fuels of the family or society.  For these, we establish </a:t>
            </a:r>
            <a:r>
              <a:rPr b="1" lang="en-US" sz="2000" spc="-1" strike="noStrike">
                <a:solidFill>
                  <a:srgbClr val="ffffff"/>
                </a:solidFill>
                <a:latin typeface="Tahoma"/>
                <a:ea typeface="Tahoma"/>
              </a:rPr>
              <a:t>ZONES</a:t>
            </a:r>
            <a:r>
              <a:rPr b="0" lang="en-US" sz="2000" spc="-1" strike="noStrike">
                <a:solidFill>
                  <a:srgbClr val="000000"/>
                </a:solidFill>
                <a:latin typeface="Tahoma"/>
                <a:ea typeface="Tahoma"/>
              </a:rPr>
              <a:t> of use, of access and of time availab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Second, energy entering or flowing </a:t>
            </a:r>
            <a:r>
              <a:rPr b="0" i="1" lang="en-US" sz="2000" spc="-1" strike="noStrike">
                <a:solidFill>
                  <a:srgbClr val="000000"/>
                </a:solidFill>
                <a:latin typeface="Tahoma"/>
                <a:ea typeface="Tahoma"/>
              </a:rPr>
              <a:t>through the site</a:t>
            </a:r>
            <a:r>
              <a:rPr b="0" lang="en-US" sz="2000" spc="-1" strike="noStrike">
                <a:solidFill>
                  <a:srgbClr val="000000"/>
                </a:solidFill>
                <a:latin typeface="Tahoma"/>
                <a:ea typeface="Tahoma"/>
              </a:rPr>
              <a:t>: wind, water, sunlight and fire may enter the site.  To govern these energies we place intervening components in the </a:t>
            </a:r>
            <a:r>
              <a:rPr b="1" lang="en-US" sz="2000" spc="-1" strike="noStrike">
                <a:solidFill>
                  <a:srgbClr val="ffffff"/>
                </a:solidFill>
                <a:latin typeface="Tahoma"/>
                <a:ea typeface="Tahoma"/>
              </a:rPr>
              <a:t>SECTORS</a:t>
            </a:r>
            <a:r>
              <a:rPr b="0" lang="en-US" sz="2000" spc="-1" strike="noStrike">
                <a:solidFill>
                  <a:srgbClr val="000000"/>
                </a:solidFill>
                <a:latin typeface="Tahoma"/>
                <a:ea typeface="Tahoma"/>
              </a:rPr>
              <a:t> from which such energies arise or can be expected to enter.  We also define sectors for views, for wildlife and for temperature (as air flow).  </a:t>
            </a:r>
            <a:r>
              <a:rPr b="0" i="1" lang="en-US" sz="2000" spc="-1" strike="noStrike">
                <a:solidFill>
                  <a:srgbClr val="000000"/>
                </a:solidFill>
                <a:latin typeface="Tahoma"/>
                <a:ea typeface="Tahoma"/>
              </a:rPr>
              <a:t>(p 49)</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4</a:t>
            </a:r>
            <a:r>
              <a:rPr b="0" lang="en-US" sz="2400" spc="-1" strike="noStrike">
                <a:solidFill>
                  <a:srgbClr val="000000"/>
                </a:solidFill>
                <a:latin typeface="Tahoma"/>
                <a:ea typeface="Tahoma"/>
              </a:rPr>
              <a:t> is </a:t>
            </a:r>
            <a:r>
              <a:rPr b="1" lang="en-US" sz="2400" spc="-1" strike="noStrike">
                <a:solidFill>
                  <a:srgbClr val="000000"/>
                </a:solidFill>
                <a:latin typeface="Tahoma"/>
                <a:ea typeface="Tahoma"/>
              </a:rPr>
              <a:t>managed habitat</a:t>
            </a:r>
            <a:r>
              <a:rPr b="0" lang="en-US" sz="2400" spc="-1" strike="noStrike">
                <a:solidFill>
                  <a:srgbClr val="000000"/>
                </a:solidFill>
                <a:latin typeface="Tahoma"/>
                <a:ea typeface="Tahoma"/>
              </a:rPr>
              <a:t>.  It might be forest or range-land, but will be managed rather than cultivated.  Examples include forests that are sustainably harvested for firewood, timber, mulch, mushrooms and wild game.  Low numbers of grazing animals might be introduced.  There might be occasional intervention, such as tree planting, erosion control or fire-management work, but the area is largely self-managing with occasional or seasonal visi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5 </a:t>
            </a:r>
            <a:r>
              <a:rPr b="0" lang="en-US" sz="2400" spc="-1" strike="noStrike">
                <a:solidFill>
                  <a:srgbClr val="000000"/>
                </a:solidFill>
                <a:latin typeface="Tahoma"/>
                <a:ea typeface="Tahoma"/>
              </a:rPr>
              <a:t>is </a:t>
            </a:r>
            <a:r>
              <a:rPr b="1" lang="en-US" sz="2400" spc="-1" strike="noStrike">
                <a:solidFill>
                  <a:srgbClr val="000000"/>
                </a:solidFill>
                <a:latin typeface="Tahoma"/>
                <a:ea typeface="Tahoma"/>
              </a:rPr>
              <a:t>natural</a:t>
            </a:r>
            <a:r>
              <a:rPr b="0" lang="en-US" sz="2400" spc="-1" strike="noStrike">
                <a:solidFill>
                  <a:srgbClr val="000000"/>
                </a:solidFill>
                <a:latin typeface="Tahoma"/>
                <a:ea typeface="Tahoma"/>
              </a:rPr>
              <a:t> </a:t>
            </a:r>
            <a:r>
              <a:rPr b="1" lang="en-US" sz="2400" spc="-1" strike="noStrike">
                <a:solidFill>
                  <a:srgbClr val="000000"/>
                </a:solidFill>
                <a:latin typeface="Tahoma"/>
                <a:ea typeface="Tahoma"/>
              </a:rPr>
              <a:t>habitat</a:t>
            </a:r>
            <a:r>
              <a:rPr b="0" lang="en-US" sz="2400" spc="-1" strike="noStrike">
                <a:solidFill>
                  <a:srgbClr val="000000"/>
                </a:solidFill>
                <a:latin typeface="Tahoma"/>
                <a:ea typeface="Tahoma"/>
              </a:rPr>
              <a:t>.  It is a reserve of habitat and genetic biodiversity, used a reference point with minimal management (to restore or maintain biod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28760" y="285840"/>
          <a:ext cx="8229600" cy="6400800"/>
        </p:xfrm>
        <a:graphic>
          <a:graphicData uri="http://schemas.openxmlformats.org/drawingml/2006/table">
            <a:tbl>
              <a:tblPr/>
              <a:tblGrid>
                <a:gridCol w="1393920"/>
                <a:gridCol w="173520"/>
                <a:gridCol w="1616760"/>
                <a:gridCol w="173520"/>
                <a:gridCol w="1545480"/>
                <a:gridCol w="173520"/>
                <a:gridCol w="1332720"/>
                <a:gridCol w="284400"/>
                <a:gridCol w="1535760"/>
              </a:tblGrid>
              <a:tr h="853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actor or strateg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Zone 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 design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use clim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mestic sufficienc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 domestic stock or orchar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 crop, forage, stored foo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thering, forage, forestry, pas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tablishment of pl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ete sheet mulch</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ot mulch and tree guard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il conditioning and green mulch</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il conditioning on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uning of tre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nsive cup or espalier,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yramid and built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pruned and natural trell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edlings, thinned to selected variet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ion of trees and pl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ed dwarf and multi-graf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fted variet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lected seedlings for later graf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ned to selected varieties, or managed by brow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853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er prov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inwater tanks, well, bore, reticul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rth tank and wells, bo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e contro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er storage in soils, dams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ms, rivers, bores and wind pump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85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ruc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use/glassho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age integr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eenhouse and barns, poultry shed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d store, field shelter</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eld shelter as hedgerow and woodlo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853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ed or generated by peop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 affected by other spec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 affected by other spec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ising from natural process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357120"/>
            <a:ext cx="8229600" cy="614376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mportant points – or misconceptions! – about zoning…</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Distance does not equal accessibility</a:t>
            </a:r>
            <a:endParaRPr b="0" lang="en-US" sz="2400" spc="-1" strike="noStrike">
              <a:solidFill>
                <a:srgbClr val="000000"/>
              </a:solidFill>
              <a:latin typeface="Calibri"/>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though zones are often though of in terms of </a:t>
            </a:r>
            <a:r>
              <a:rPr b="0" i="1" lang="en-US" sz="2400" spc="-1" strike="noStrike">
                <a:solidFill>
                  <a:srgbClr val="000000"/>
                </a:solidFill>
                <a:latin typeface="Tahoma"/>
                <a:ea typeface="Tahoma"/>
              </a:rPr>
              <a:t>distance</a:t>
            </a:r>
            <a:r>
              <a:rPr b="0" lang="en-US" sz="2400" spc="-1" strike="noStrike">
                <a:solidFill>
                  <a:srgbClr val="000000"/>
                </a:solidFill>
                <a:latin typeface="Tahoma"/>
                <a:ea typeface="Tahoma"/>
              </a:rPr>
              <a:t>, it is </a:t>
            </a:r>
            <a:r>
              <a:rPr b="1" i="1" lang="en-US" sz="2400" spc="-1" strike="noStrike">
                <a:solidFill>
                  <a:srgbClr val="000000"/>
                </a:solidFill>
                <a:latin typeface="Tahoma"/>
                <a:ea typeface="Tahoma"/>
              </a:rPr>
              <a:t>accessibility</a:t>
            </a:r>
            <a:r>
              <a:rPr b="0" lang="en-US" sz="2400" spc="-1" strike="noStrike">
                <a:solidFill>
                  <a:srgbClr val="000000"/>
                </a:solidFill>
                <a:latin typeface="Tahoma"/>
                <a:ea typeface="Tahoma"/>
              </a:rPr>
              <a:t> that is important.  </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f there are physical barriers in a particular direction, people will be unwilling or unable to go there and so it is pointless mapping a Zone 1 vegetable garden there.  If your house backs up to a steeply sloping hill, Zone 4 might start 5 metres from your back doo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wift-flowing deep riv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usy road</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ig patch of blackberri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ough rocky ground</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 edges are key locations in your desig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re are some elements that recur on the </a:t>
            </a:r>
            <a:r>
              <a:rPr b="1" i="1" lang="en-US" sz="2400" spc="-1" strike="noStrike">
                <a:solidFill>
                  <a:srgbClr val="000000"/>
                </a:solidFill>
                <a:latin typeface="Tahoma"/>
                <a:ea typeface="Tahoma"/>
              </a:rPr>
              <a:t>edges</a:t>
            </a:r>
            <a:r>
              <a:rPr b="0" lang="en-US" sz="2400" spc="-1" strike="noStrike">
                <a:solidFill>
                  <a:srgbClr val="000000"/>
                </a:solidFill>
                <a:latin typeface="Tahoma"/>
                <a:ea typeface="Tahoma"/>
              </a:rPr>
              <a:t> of zones; e.g.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oultry houses on the edge of zones 1 and 2,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rewood drying areas on the edge of zones 3 and 4,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arns or workshops on the edge of zones 1 &amp; 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hat other elements can you think of that go well on edge of zones and </a:t>
            </a:r>
            <a:r>
              <a:rPr b="1" i="1" lang="en-US" sz="2400" spc="-1" strike="noStrike">
                <a:solidFill>
                  <a:srgbClr val="000000"/>
                </a:solidFill>
                <a:latin typeface="Tahoma"/>
                <a:ea typeface="Tahoma"/>
              </a:rPr>
              <a:t>why</a:t>
            </a:r>
            <a:r>
              <a:rPr b="0" lang="en-US" sz="2400" spc="-1" strike="noStrike">
                <a:solidFill>
                  <a:srgbClr val="000000"/>
                </a:solidFill>
                <a:latin typeface="Tahoma"/>
                <a:ea typeface="Tahoma"/>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attle yards, milking sheds, firewood processing areas, water storages, slaughter-yards, green houses, hot hous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57120"/>
            <a:ext cx="8229600" cy="6143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You don’t have to have all the zones in your design</a:t>
            </a:r>
            <a:r>
              <a:rPr b="0" lang="en-US" sz="2400" spc="-1" strike="noStrike">
                <a:solidFill>
                  <a:srgbClr val="000000"/>
                </a:solidFill>
                <a:latin typeface="Tahoma"/>
                <a:ea typeface="Tahoma"/>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an urban context, most people only have zone 1 and a small zone 2 area (i.e. a large vegetable garden plus a few fruit tree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ose with larger blocks in towns might have larger zone 2 areas – enough for a ‘proper’ home orchard and some perennial planting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Very few people have Zones 3-5.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ahoma"/>
              </a:rPr>
              <a:t>(hint: 3 native trees at the back of your yard is NOT Zone 5!)</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357120"/>
            <a:ext cx="8229600" cy="6143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s are not always circl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his descriptions of zones, Bill Mollison described them as a series of concentric circles (Designer’s Manual, p 49) and some people adopted that language so firmly that they actually think zones have to be in circles around the central point.  This is completely wrong, because the pattern must always be adapted or interpreted to fit the particulars of the specific site.  Zones can be all sorts of wacky sha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EUG 010.JPG"/>
          <p:cNvPicPr/>
          <p:nvPr/>
        </p:nvPicPr>
        <p:blipFill>
          <a:blip r:embed="rId1"/>
          <a:stretch/>
        </p:blipFill>
        <p:spPr>
          <a:xfrm>
            <a:off x="0" y="-115920"/>
            <a:ext cx="9678960" cy="725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7120"/>
            <a:ext cx="8229600" cy="61437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Zones are affected by secto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flow of ‘wild’ energies into your site will impact on your zones.  Where there are powerful external forces entering the site , you must design around them.  For instance, in a temperate climate, zones will be designed to maximize sunlight, minimise cold Winter winds, avoid or mitigate frost and take advantage of available rainfal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Sometimes you ‘skip’ a zon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s possible to have a design that misses a zone, usually zone 3 or 4, but includes the more distant zones.  For instance, a rural property with a small cleared roadside frontage stretching to remnant bushland adjacent to a National Park, might have zones 1 and 2 for household produce, but no commercial farming or managed bushland.  It would have zones 1, 2 and 5.  This is unusual, but worth remembering in your plan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or analysi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un angles (winter/summer sunrise/set, angle of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nergies: wind, rain, fire, fl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ther issues: views, noise,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lope: gravity, water, dirt/litter movement, vehicle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tours – understanding and ‘reading’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Consider scale in your desig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 is important to notice that scale can vary from site to site.  A Zone 1 vegetable garden for a family of 8 could be the same size as a commercial crop of ginseng at another property.  A Zone 3 area could be an acre or 1000 acres, depending on the crop being farm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Consider scale in your desig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t is important to notice that scale can vary from site to site.  A Zone 1 vegetable garden for a family of 8 could be the same size as a commercial crop of ginseng at another property.  A Zone 3 area could be an acre or 1000 acres, depending on the crop being farm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Tahoma"/>
              </a:rPr>
              <a:t>Some elements occur in more than one z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hile it is common for many elements to occur only once in a design (e.g. hot house, cool store), there are other elements that may occur several times and could be in more than one zon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For instance, you might have a small amount of dry firewood in Zone 0, a kindling and wood shed in Zone 1 and firewood drying racks or processing areas in Zones 2-4.</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1’ animal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in fixed or portable caging with limited free-rang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antams, pheasants, pigeons and qu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ducks: garden friendly and miniature variet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rabbits and guinea pigs (cav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worm fa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2’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pens and yar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flocks of poultr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turkeys, guinea fowl, ducks &amp; gees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ig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house cow</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milking goat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e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miniature breeds for small scale system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lowline cattl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3’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paddock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traditional bree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sheep, goats, horses, cattle and pig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bison, water buffalo, highland cattl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ostrich and emu</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deer, antelope &amp; alpaca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357120"/>
            <a:ext cx="8229600" cy="61437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Zone 4’ animal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 rangelan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traditional stock, but ranged at low stocking rate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harvesting wild life and feral animals as a resource &amp;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population management techniqu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kangaroo vs sheep &amp; cattle in pastoral rangelan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357120"/>
            <a:ext cx="8329680" cy="6143760"/>
          </a:xfrm>
          <a:prstGeom prst="rect">
            <a:avLst/>
          </a:prstGeom>
          <a:noFill/>
          <a:ln w="0">
            <a:noFill/>
          </a:ln>
        </p:spPr>
        <p:txBody>
          <a:bodyPr anchor="t">
            <a:normAutofit fontScale="9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a:t>
            </a:r>
            <a:r>
              <a:rPr b="1" i="1" lang="en-US" sz="2400" spc="-1" strike="noStrike">
                <a:solidFill>
                  <a:srgbClr val="000000"/>
                </a:solidFill>
                <a:latin typeface="Tahoma"/>
                <a:ea typeface="Tahoma"/>
              </a:rPr>
              <a:t>The Zoning Gam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roups of 5-6)</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elect one of the four cloth site map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y the map out on your table and have a short group discussion to determine what key information is conveyed by – or missing from – the map.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ide what zones are present and where they are.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rk zone edges with coloured wool.</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view the set of elements (printed on small card) that are with the map and arrange them within your zones.  Note that some elements will not be appropriate for your site and you may wish to make some of your own cards to add elements that haven’t been provide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fter a time, each group will present its conclusions and other groups will ask about zone and element placeme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ITE ANALYSIS PLAN 21.tiff"/>
          <p:cNvPicPr/>
          <p:nvPr/>
        </p:nvPicPr>
        <p:blipFill>
          <a:blip r:embed="rId1"/>
          <a:stretch/>
        </p:blipFill>
        <p:spPr>
          <a:xfrm>
            <a:off x="907920" y="0"/>
            <a:ext cx="7328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EUG 00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57120" y="4857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ahoma"/>
                <a:ea typeface="Tahoma"/>
              </a:rPr>
              <a:t>Zones in Permaculture</a:t>
            </a:r>
            <a:endParaRPr b="0" lang="en-US" sz="66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642600"/>
            <a:ext cx="8229600" cy="59720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Zones</a:t>
            </a:r>
            <a:endParaRPr b="0" lang="en-US" sz="4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Zoning is one of the major patterns that we use in permaculture.  It is a spatial design tool, meaning that we use it to place design elements within the space in which we are working.  Zones are determined based on two facto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requency of visits required </a:t>
            </a:r>
            <a:endParaRPr b="0" lang="en-US" sz="2400" spc="-1" strike="noStrike">
              <a:solidFill>
                <a:srgbClr val="000000"/>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g. to feed, water, harvest, et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pace required for the elemen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e.g. can’t grow firewood lot on 500m</a:t>
            </a:r>
            <a:r>
              <a:rPr b="0" lang="en-US" sz="2400" spc="-1" strike="noStrike" baseline="30000">
                <a:solidFill>
                  <a:srgbClr val="000000"/>
                </a:solidFill>
                <a:latin typeface="Tahoma"/>
                <a:ea typeface="Tahoma"/>
              </a:rPr>
              <a:t>2 </a:t>
            </a:r>
            <a:r>
              <a:rPr b="0" lang="en-US" sz="2400" spc="-1" strike="noStrike">
                <a:solidFill>
                  <a:srgbClr val="000000"/>
                </a:solidFill>
                <a:latin typeface="Tahoma"/>
                <a:ea typeface="Tahoma"/>
              </a:rPr>
              <a:t>urban blo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0</a:t>
            </a:r>
            <a:r>
              <a:rPr b="0" lang="en-US" sz="2400" spc="-1" strike="noStrike">
                <a:solidFill>
                  <a:srgbClr val="000000"/>
                </a:solidFill>
                <a:latin typeface="Tahoma"/>
                <a:ea typeface="Tahoma"/>
              </a:rPr>
              <a:t> is the base or centre of activity.  It is usually the home, but on larger properties there might be multiple homes or outbuildings (workshops/barns) which become second Zone O's.  In ‘community-scale’ designs, Zone 0 could be a village.</a:t>
            </a:r>
            <a:br>
              <a:rPr sz="2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1</a:t>
            </a:r>
            <a:r>
              <a:rPr b="0" lang="en-US" sz="2400" spc="-1" strike="noStrike">
                <a:solidFill>
                  <a:srgbClr val="000000"/>
                </a:solidFill>
                <a:latin typeface="Tahoma"/>
                <a:ea typeface="Tahoma"/>
              </a:rPr>
              <a:t> is the </a:t>
            </a:r>
            <a:r>
              <a:rPr b="1" lang="en-US" sz="2400" spc="-1" strike="noStrike">
                <a:solidFill>
                  <a:srgbClr val="000000"/>
                </a:solidFill>
                <a:latin typeface="Tahoma"/>
                <a:ea typeface="Tahoma"/>
              </a:rPr>
              <a:t>kitchen garden</a:t>
            </a:r>
            <a:r>
              <a:rPr b="0" lang="en-US" sz="2400" spc="-1" strike="noStrike">
                <a:solidFill>
                  <a:srgbClr val="000000"/>
                </a:solidFill>
                <a:latin typeface="Tahoma"/>
                <a:ea typeface="Tahoma"/>
              </a:rPr>
              <a:t>: focused on household support, high-yielding, high maintenance, intensively cultivated, producing vegetables and herbs for home consumption.  Management is predominantly with hand tools and is usually a daily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2</a:t>
            </a:r>
            <a:r>
              <a:rPr b="0" lang="en-US" sz="2400" spc="-1" strike="noStrike">
                <a:solidFill>
                  <a:srgbClr val="000000"/>
                </a:solidFill>
                <a:latin typeface="Tahoma"/>
                <a:ea typeface="Tahoma"/>
              </a:rPr>
              <a:t> is an </a:t>
            </a:r>
            <a:r>
              <a:rPr b="1" lang="en-US" sz="2400" spc="-1" strike="noStrike">
                <a:solidFill>
                  <a:srgbClr val="000000"/>
                </a:solidFill>
                <a:latin typeface="Tahoma"/>
                <a:ea typeface="Tahoma"/>
              </a:rPr>
              <a:t>intensive production area</a:t>
            </a:r>
            <a:r>
              <a:rPr b="0" lang="en-US" sz="2400" spc="-1" strike="noStrike">
                <a:solidFill>
                  <a:srgbClr val="000000"/>
                </a:solidFill>
                <a:latin typeface="Tahoma"/>
                <a:ea typeface="Tahoma"/>
              </a:rPr>
              <a:t>, largely for home consumption but with excess for sale or barter.  Within Zone 2, it is common to find an orchard and larger plantings of vegetables, perhaps big beds of perennials like artichokes or asparagus or large seasonal plantings of staples like corn and potatoes.  Small animals, such as poultry or milking goats, are often within Zone 2.  Management is still largely with hand tools or light machinery and requires less frequent attendance than in Zone 1. There may be periods of regular activity during harvest, pruning or sowing, but also periods where elements will not be visited for days at a time.</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14200"/>
            <a:ext cx="821520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Zone 3</a:t>
            </a:r>
            <a:r>
              <a:rPr b="0" lang="en-US" sz="2400" spc="-1" strike="noStrike">
                <a:solidFill>
                  <a:srgbClr val="000000"/>
                </a:solidFill>
                <a:latin typeface="Tahoma"/>
                <a:ea typeface="Tahoma"/>
              </a:rPr>
              <a:t> is a </a:t>
            </a:r>
            <a:r>
              <a:rPr b="1" lang="en-US" sz="2400" spc="-1" strike="noStrike">
                <a:solidFill>
                  <a:srgbClr val="000000"/>
                </a:solidFill>
                <a:latin typeface="Tahoma"/>
                <a:ea typeface="Tahoma"/>
              </a:rPr>
              <a:t>commercial farming</a:t>
            </a:r>
            <a:r>
              <a:rPr b="0" lang="en-US" sz="2400" spc="-1" strike="noStrike">
                <a:solidFill>
                  <a:srgbClr val="000000"/>
                </a:solidFill>
                <a:latin typeface="Tahoma"/>
                <a:ea typeface="Tahoma"/>
              </a:rPr>
              <a:t> zone.  Land uses could include commercial orchards, cereal crops, agro-forestry, beef, sheep or dairy farming, as well as many others.  Management is likely to use commercial-scale equipment such as tractors, harvesters, etc. and attendance could be weekly or l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4:43:44Z</dcterms:created>
  <dc:creator>Steve Burns</dc:creator>
  <dc:description/>
  <dc:language>en-US</dc:language>
  <cp:lastModifiedBy>Steve Burns</cp:lastModifiedBy>
  <dcterms:modified xsi:type="dcterms:W3CDTF">2012-08-24T15:31:40Z</dcterms:modified>
  <cp:revision>49</cp:revision>
  <dc:subject/>
  <dc:title>Functions and Needs Analysis</dc:title>
</cp:coreProperties>
</file>